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3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9.png" ContentType="image/png"/>
  <Override PartName="/ppt/media/image17.png" ContentType="image/png"/>
  <Override PartName="/ppt/media/image14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4.png" ContentType="image/pn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35EE-17BE-4FA9-99C1-223539E36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0796-70C4-4366-A4F3-D087D6FFF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CEAE-8E26-4418-85C6-E6C8F309B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F8F5-9240-4F62-921A-5EFDB06FD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09DD-4A5B-4C8E-A833-464D8042F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7971-E34B-4DDB-94CD-9ED318C84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05AC-3D4F-48C4-9925-002A3A383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BC64-46B6-4843-BBEA-905950234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55C5-934E-4ECA-91C5-F00E941BA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2699-DF37-4439-82EB-6850A7765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55C5-1D33-49AD-8873-E2EE65046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0EB7-B829-40E1-9254-E2015DFE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689D6-B710-407B-AB1A-4A679F9991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cover_genchem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id-Base Chemis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l Double Replacement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molarit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entrated vs. Dilu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http://www.proprofs.com/quiz-school/upload/yuiupload/1749148290.jpg"/>
          <p:cNvPicPr/>
          <p:nvPr/>
        </p:nvPicPr>
        <p:blipFill>
          <a:blip r:embed="rId1"/>
          <a:srcRect l="0" t="4053" r="0" b="0"/>
          <a:stretch/>
        </p:blipFill>
        <p:spPr>
          <a:xfrm>
            <a:off x="1295280" y="1219320"/>
            <a:ext cx="5695920" cy="4687920"/>
          </a:xfrm>
          <a:prstGeom prst="rect">
            <a:avLst/>
          </a:prstGeom>
          <a:ln w="0">
            <a:noFill/>
          </a:ln>
        </p:spPr>
      </p:pic>
      <p:sp>
        <p:nvSpPr>
          <p:cNvPr id="84" name="TextBox 2"/>
          <p:cNvSpPr/>
          <p:nvPr/>
        </p:nvSpPr>
        <p:spPr>
          <a:xfrm>
            <a:off x="990720" y="601488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entrated Sugar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4876920" y="599292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lute Sugar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tion Concent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arity= moles of solute per Liters of solution  (M=n/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Calcuate the molarity when 75.0 grams of Mg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dissolved in 500.0 mL of solu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the molarity of the following solu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. grams of calcium nitrite in 240.0 mL of solu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79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8.0 grams of sodium hydroxide in 2.2 liters of sol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1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grams of solid are required to 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75 L of 0.25 M N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solve 27 g N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dilute to 0.75 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lution of Solu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e: moles of solute remain consta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mL of a 5.0M stock solution would you need to prepare 100.0mL of 0.25M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0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I have 340 mL of a 0.50 M NaBr solution, what will the concentration be if I add 560 mL more water to i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19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what volume would I need to add water to the solution in the previous problem to get a solution with a concentration of 0.0250 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800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cent 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cent by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mass= (mass of solute/mass of solution)*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percent by mass of NaHCO3 in a solution of 20g NaH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600 g of solu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cent by Volum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oth solute and solvent are liqui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volume = (volume of solute/volume of solution)*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have 100.0 mL of a 30.0% ethanol solution, what volumes of ethanol and water are in the solu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5568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ids and Bases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.1-19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http://www.bcscience.com/bc10/images/0_quiz-5.1-04.gif"/>
          <p:cNvPicPr/>
          <p:nvPr/>
        </p:nvPicPr>
        <p:blipFill>
          <a:blip r:embed="rId1"/>
          <a:stretch/>
        </p:blipFill>
        <p:spPr>
          <a:xfrm>
            <a:off x="457200" y="2362320"/>
            <a:ext cx="786924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ids and B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523880" y="1397160"/>
          <a:ext cx="6096240" cy="27637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i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ritating (burnin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ippe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ct with met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e H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 indicator Colors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acteristic Formu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 in front or COOH at 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H at the 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Acid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6000"/>
          </a:bodyPr>
          <a:p>
            <a:pPr lvl="2" marL="123480" indent="-123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o-, di-, and triprotic acids- have 1, 2, or 3 H atoms that can become ioniz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te: not all compounds that contain H are acidic and   not all hydrogens in an acid will necessarily ioniz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3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3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all Naming Rules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3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ary Acids (HCl) 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Hydro  _______ ic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3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3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yacids 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 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- ic acids from ate 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3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- ous acids from ite 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69343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.2 &amp; 15.3The Nature of Homogeneous and Heterogeneous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14360" y="1500120"/>
            <a:ext cx="8229600" cy="24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ogeneous Systems – </a:t>
            </a:r>
            <a:r>
              <a:rPr b="0" lang="en-US" sz="2400" spc="-1" strike="noStrike">
                <a:solidFill>
                  <a:srgbClr val="222268"/>
                </a:solidFill>
                <a:latin typeface="Arial"/>
              </a:rPr>
              <a:t>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49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queous- water containing dissolved substance(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e: not all solutions are aque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49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vent- “does the dissolving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49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e- “is dissolved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2835360" y="4114800"/>
            <a:ext cx="543240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terogeneous Systems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b6bc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222268"/>
                </a:solidFill>
                <a:latin typeface="Arial"/>
              </a:rPr>
              <a:t>Colloids and Susp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ins a dispersed phase in a dispersion me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cles in colloids and suspensions are larger than solute p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http://www.uncp.edu/home/mcclurem/ptable/ni_3.jpg"/>
          <p:cNvPicPr/>
          <p:nvPr/>
        </p:nvPicPr>
        <p:blipFill>
          <a:blip r:embed="rId1"/>
          <a:stretch/>
        </p:blipFill>
        <p:spPr>
          <a:xfrm>
            <a:off x="6095880" y="2362320"/>
            <a:ext cx="2238480" cy="1676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http://www.renovateyourmarketing.com/wp-content/uploads/2012/02/paint_cans.jpg"/>
          <p:cNvPicPr/>
          <p:nvPr/>
        </p:nvPicPr>
        <p:blipFill>
          <a:blip r:embed="rId2"/>
          <a:stretch/>
        </p:blipFill>
        <p:spPr>
          <a:xfrm>
            <a:off x="685800" y="4276800"/>
            <a:ext cx="20160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rhenius Definition of Acid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15800" y="12794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ids- generate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ons in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s-generate O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ons in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0" descr="http://www.biologycorner.com/resources/acids_bases.gif"/>
          <p:cNvPicPr/>
          <p:nvPr/>
        </p:nvPicPr>
        <p:blipFill>
          <a:blip r:embed="rId1"/>
          <a:srcRect l="0" t="14402" r="0" b="0"/>
          <a:stretch/>
        </p:blipFill>
        <p:spPr>
          <a:xfrm>
            <a:off x="396720" y="2286000"/>
            <a:ext cx="4356360" cy="2209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2" descr="hydronium-ion-formation.gif"/>
          <p:cNvPicPr/>
          <p:nvPr/>
        </p:nvPicPr>
        <p:blipFill>
          <a:blip r:embed="rId2"/>
          <a:stretch/>
        </p:blipFill>
        <p:spPr>
          <a:xfrm>
            <a:off x="5018040" y="4025880"/>
            <a:ext cx="3516480" cy="24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 v. We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84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Cl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 B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I or IIA with 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http://www.wiley.com/college/pratt/0471393878/student/review/acid_base/acid_dissociation.gif"/>
          <p:cNvPicPr/>
          <p:nvPr/>
        </p:nvPicPr>
        <p:blipFill>
          <a:blip r:embed="rId1"/>
          <a:stretch/>
        </p:blipFill>
        <p:spPr>
          <a:xfrm>
            <a:off x="3352680" y="2590920"/>
            <a:ext cx="3962520" cy="3176640"/>
          </a:xfrm>
          <a:prstGeom prst="rect">
            <a:avLst/>
          </a:prstGeom>
          <a:ln w="0">
            <a:noFill/>
          </a:ln>
        </p:spPr>
      </p:pic>
      <p:sp>
        <p:nvSpPr>
          <p:cNvPr id="110" name="TextBox 1"/>
          <p:cNvSpPr/>
          <p:nvPr/>
        </p:nvSpPr>
        <p:spPr>
          <a:xfrm>
            <a:off x="2385720" y="1035000"/>
            <a:ext cx="401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Determined by the extent of io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868680" y="5924520"/>
            <a:ext cx="654912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Small dissociation constants (K</a:t>
            </a:r>
            <a:r>
              <a:rPr b="0" lang="en-US" sz="1800" spc="-1" strike="noStrike" baseline="-25000">
                <a:solidFill>
                  <a:srgbClr val="c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 or K</a:t>
            </a:r>
            <a:r>
              <a:rPr b="0" lang="en-US" sz="1800" spc="-1" strike="noStrike" baseline="-25000">
                <a:solidFill>
                  <a:srgbClr val="c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) = weak acids and 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Large dissociation constants = strong acids and 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utralization Reactions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id and base react to yield water and a sa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beakerofions_before"/>
          <p:cNvPicPr/>
          <p:nvPr/>
        </p:nvPicPr>
        <p:blipFill>
          <a:blip r:embed="rId1"/>
          <a:stretch/>
        </p:blipFill>
        <p:spPr>
          <a:xfrm>
            <a:off x="762120" y="3505320"/>
            <a:ext cx="2857320" cy="2971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beakerofions"/>
          <p:cNvPicPr/>
          <p:nvPr/>
        </p:nvPicPr>
        <p:blipFill>
          <a:blip r:embed="rId2"/>
          <a:stretch/>
        </p:blipFill>
        <p:spPr>
          <a:xfrm>
            <a:off x="5334120" y="3657600"/>
            <a:ext cx="2813040" cy="2925720"/>
          </a:xfrm>
          <a:prstGeom prst="rect">
            <a:avLst/>
          </a:prstGeom>
          <a:ln w="0">
            <a:noFill/>
          </a:ln>
        </p:spPr>
      </p:pic>
      <p:sp>
        <p:nvSpPr>
          <p:cNvPr id="116" name="Line 10"/>
          <p:cNvSpPr/>
          <p:nvPr/>
        </p:nvSpPr>
        <p:spPr>
          <a:xfrm>
            <a:off x="3657600" y="51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ration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owly adding a solution of known concentration to one of unknown concentration until a neutral solution is form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http://www.chem.uwec.edu/Chem352_S11/pages/elaborations/acids-bases/e_neutralization/titration-calculation.png"/>
          <p:cNvPicPr/>
          <p:nvPr/>
        </p:nvPicPr>
        <p:blipFill>
          <a:blip r:embed="rId1"/>
          <a:stretch/>
        </p:blipFill>
        <p:spPr>
          <a:xfrm>
            <a:off x="1066680" y="3124080"/>
            <a:ext cx="697248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id-Base Indic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o predict endpoint of ti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186indicators"/>
          <p:cNvPicPr/>
          <p:nvPr/>
        </p:nvPicPr>
        <p:blipFill>
          <a:blip r:embed="rId1"/>
          <a:srcRect l="0" t="0" r="22499" b="0"/>
          <a:stretch/>
        </p:blipFill>
        <p:spPr>
          <a:xfrm>
            <a:off x="1066680" y="1523880"/>
            <a:ext cx="6858000" cy="51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0388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 = -log[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http://t0.gstatic.com/images?q=tbn:ANd9GcTZ_kBnfSishSliELlK3xKVb98kqdg2Cv5Ubfltg-eZ6xXJ5k0rG4klV-8Uqg"/>
          <p:cNvPicPr/>
          <p:nvPr/>
        </p:nvPicPr>
        <p:blipFill>
          <a:blip r:embed="rId1"/>
          <a:stretch/>
        </p:blipFill>
        <p:spPr>
          <a:xfrm>
            <a:off x="304920" y="2478240"/>
            <a:ext cx="3124080" cy="27223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http://bouman.chem.georgetown.edu/S02/lect14/ph.gif"/>
          <p:cNvPicPr/>
          <p:nvPr/>
        </p:nvPicPr>
        <p:blipFill>
          <a:blip r:embed="rId2"/>
          <a:stretch/>
        </p:blipFill>
        <p:spPr>
          <a:xfrm>
            <a:off x="3394080" y="914400"/>
            <a:ext cx="496260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ngth of Acids – Dissociation const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380880" y="1523880"/>
          <a:ext cx="8382240" cy="2837160"/>
        </p:xfrm>
        <a:graphic>
          <a:graphicData uri="http://schemas.openxmlformats.org/drawingml/2006/table">
            <a:tbl>
              <a:tblPr/>
              <a:tblGrid>
                <a:gridCol w="2438640"/>
                <a:gridCol w="1676160"/>
                <a:gridCol w="1981440"/>
                <a:gridCol w="2286000"/>
              </a:tblGrid>
              <a:tr h="608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er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oid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spens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cle Siz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-1n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1000n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nm or larg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cles Settle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ndall Effect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 of Mix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ogene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terogeneo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terogeneo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12640" y="6094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pensions and Collo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546480" y="4648320"/>
            <a:ext cx="697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ndall Effect: The scattering of light by suspended p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637200" y="5261040"/>
            <a:ext cx="614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ulsion:  Colloidal suspension of a liquid in a liqu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ayo, margarine, butter, mil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1269000" y="6113520"/>
            <a:ext cx="62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Know examples from table 15.3 on page 4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Dissolv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 for solute particles being surrounded by solvent molecules =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Sol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ioniclattice_solvation"/>
          <p:cNvPicPr/>
          <p:nvPr/>
        </p:nvPicPr>
        <p:blipFill>
          <a:blip r:embed="rId1"/>
          <a:stretch/>
        </p:blipFill>
        <p:spPr>
          <a:xfrm>
            <a:off x="2286000" y="2895480"/>
            <a:ext cx="4191120" cy="32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erties of Solution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.1 and 16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47920" y="1599840"/>
            <a:ext cx="35049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952520" y="1599840"/>
            <a:ext cx="2971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n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http://us.123rf.com/400wm/400/400/kaludov/kaludov1106/kaludov110600050/9819969-solubility-of-the-acids-hydroxides-and-salts-in-water.jpg"/>
          <p:cNvPicPr/>
          <p:nvPr/>
        </p:nvPicPr>
        <p:blipFill>
          <a:blip r:embed="rId1"/>
          <a:stretch/>
        </p:blipFill>
        <p:spPr>
          <a:xfrm>
            <a:off x="533520" y="2514600"/>
            <a:ext cx="3809880" cy="2695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http://water.me.vccs.edu/courses/env211/changes/solution2.jpg"/>
          <p:cNvPicPr/>
          <p:nvPr/>
        </p:nvPicPr>
        <p:blipFill>
          <a:blip r:embed="rId2"/>
          <a:stretch/>
        </p:blipFill>
        <p:spPr>
          <a:xfrm>
            <a:off x="4648320" y="243360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-577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e of dissolving- influenced b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itation, temperature, particle size (surface are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s Influencing Dissol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http://img.directindustry.com/images_di/photo-g/laboratory-hot-plate-magnetic-stirrer-425464.jpg"/>
          <p:cNvPicPr/>
          <p:nvPr/>
        </p:nvPicPr>
        <p:blipFill>
          <a:blip r:embed="rId1"/>
          <a:stretch/>
        </p:blipFill>
        <p:spPr>
          <a:xfrm>
            <a:off x="711360" y="2857680"/>
            <a:ext cx="3531960" cy="2514600"/>
          </a:xfrm>
          <a:prstGeom prst="rect">
            <a:avLst/>
          </a:prstGeom>
          <a:ln w="0">
            <a:noFill/>
          </a:ln>
        </p:spPr>
      </p:pic>
      <p:sp>
        <p:nvSpPr>
          <p:cNvPr id="65" name="TextBox 3"/>
          <p:cNvSpPr/>
          <p:nvPr/>
        </p:nvSpPr>
        <p:spPr>
          <a:xfrm>
            <a:off x="4419720" y="3298680"/>
            <a:ext cx="396216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ount that can be dissolved- influenced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/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bility Cur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53337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bility- the maximum amount of solute per a given amount of solvent (usually 100g wa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sol_curve.jpg (53222 bytes)"/>
          <p:cNvPicPr/>
          <p:nvPr/>
        </p:nvPicPr>
        <p:blipFill>
          <a:blip r:embed="rId1"/>
          <a:stretch/>
        </p:blipFill>
        <p:spPr>
          <a:xfrm>
            <a:off x="2057400" y="990720"/>
            <a:ext cx="472428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s of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sol_curve"/>
          <p:cNvPicPr/>
          <p:nvPr/>
        </p:nvPicPr>
        <p:blipFill>
          <a:blip r:embed="rId1"/>
          <a:stretch/>
        </p:blipFill>
        <p:spPr>
          <a:xfrm>
            <a:off x="762120" y="993600"/>
            <a:ext cx="7305480" cy="54756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7"/>
          <p:cNvSpPr/>
          <p:nvPr/>
        </p:nvSpPr>
        <p:spPr>
          <a:xfrm>
            <a:off x="3048120" y="3700440"/>
            <a:ext cx="4343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saturated Solution of Na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1828800" y="914400"/>
            <a:ext cx="281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2117880" y="1316160"/>
            <a:ext cx="3805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ersaturated Solution of Na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1"/>
          <p:cNvSpPr/>
          <p:nvPr/>
        </p:nvSpPr>
        <p:spPr>
          <a:xfrm rot="19848000">
            <a:off x="3276720" y="1676160"/>
            <a:ext cx="2895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2"/>
          <p:cNvSpPr/>
          <p:nvPr/>
        </p:nvSpPr>
        <p:spPr>
          <a:xfrm rot="19913400">
            <a:off x="2823480" y="2589840"/>
            <a:ext cx="320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turated Solution of Na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07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preting Solubility Cur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0520" y="990360"/>
            <a:ext cx="403884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ids in water- generally more soluble at higher temperatures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e: N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0" y="990720"/>
            <a:ext cx="403848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ses in water- solubility decreases with increased temper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5" descr="solubi1"/>
          <p:cNvPicPr/>
          <p:nvPr/>
        </p:nvPicPr>
        <p:blipFill>
          <a:blip r:embed="rId1"/>
          <a:stretch/>
        </p:blipFill>
        <p:spPr>
          <a:xfrm>
            <a:off x="914400" y="2133720"/>
            <a:ext cx="7086600" cy="43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9T18:18:46Z</dcterms:created>
  <dc:creator>udsd</dc:creator>
  <dc:description/>
  <dc:language>en-US</dc:language>
  <cp:lastModifiedBy>Dawn</cp:lastModifiedBy>
  <dcterms:modified xsi:type="dcterms:W3CDTF">2012-04-08T17:35:20Z</dcterms:modified>
  <cp:revision>58</cp:revision>
  <dc:subject/>
  <dc:title>Acid-Base Chemistry</dc:title>
</cp:coreProperties>
</file>